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DC27E-6D5A-4A60-9F3F-ADD95D57D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C44D9-72B3-4FDA-B4BC-34E55F942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0827D-A897-4AF7-833F-126FF43C2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FD1A4-900B-41A8-BA35-245D60B2D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4562D-B8A7-4CCC-B176-A3F341DE3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8830B-359A-4D21-B048-864E37AE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71DFD-4A97-4F0C-A5B6-F11AFCC82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B90F5-8E2C-474C-BD4A-89390F8FA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4D382-B9EE-4C4B-99C5-994A6D247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5A0D7-3356-4A3B-BD2E-096680891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AE65-5F4B-4C7A-86E4-488F03238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01D67-3DE8-409D-9F28-CB0748DA7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C48C6-C4A0-4D07-96DB-60727CBDD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E2C7A-0E60-44EF-B3FE-848EC694C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3BA66-4D1E-48B9-8E52-92708C5E6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9279A-71A7-4C55-94A6-F182824DA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E1BE4-E96D-4E35-BF61-B0CEC5DA3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5940-388F-4CE1-9EDC-7B14636B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083F-2237-4587-B139-C94215C2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A64A-67E5-447B-AFE7-C1A5E9BB2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0D83-007C-4A22-95D1-E055DC682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5270-D260-4C4A-B5DE-A6AE8A13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311D-1CD3-4696-8735-CC88582E1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73A2-4F5B-4B80-A1B1-36AB61D66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2296-C23D-4D41-8EB2-244D1DE55AC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8125-BF32-441C-BB0F-20664AAB51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Story Element</a:t>
            </a:r>
            <a:br>
              <a:rPr sz="3600"/>
            </a:br>
            <a:r>
              <a:rPr b="1" lang="en-US" sz="3600" spc="-1" strike="noStrike">
                <a:solidFill>
                  <a:srgbClr val="f7d47d"/>
                </a:solidFill>
                <a:latin typeface="Arial"/>
              </a:rPr>
              <a:t>Can Do</a:t>
            </a:r>
            <a:br>
              <a:rPr sz="3600"/>
            </a:br>
            <a:r>
              <a:rPr b="0" lang="en-US" sz="3600" spc="-1" strike="noStrike">
                <a:solidFill>
                  <a:srgbClr val="f7d47d"/>
                </a:solidFill>
                <a:latin typeface="Arial"/>
              </a:rPr>
              <a:t>*Identify the element of a short story including setting, character, plot, and theme.</a:t>
            </a:r>
            <a:br>
              <a:rPr sz="3600"/>
            </a:br>
            <a:r>
              <a:rPr b="0" lang="en-US" sz="3600" spc="-1" strike="noStrike">
                <a:solidFill>
                  <a:srgbClr val="f7d47d"/>
                </a:solidFill>
                <a:latin typeface="Arial"/>
              </a:rPr>
              <a:t>*Practice sorting story elements into a graphic organizer.</a:t>
            </a:r>
            <a:br>
              <a:rPr sz="3600"/>
            </a:b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ic Reading:</a:t>
            </a:r>
            <a:br>
              <a:rPr sz="3600"/>
            </a:br>
            <a:r>
              <a:rPr b="0" lang="en-US" sz="3600" spc="-1" strike="noStrike">
                <a:solidFill>
                  <a:srgbClr val="f7d47d"/>
                </a:solidFill>
                <a:latin typeface="Arial"/>
              </a:rPr>
              <a:t>Story Elements</a:t>
            </a:r>
            <a:endParaRPr b="0" lang="en-US" sz="36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ere and when does the story take place?</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o is the main character in this story?</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do we know about him?</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e’ll examine more details about the characters as we reread the story.</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ow does this story begin?</a:t>
            </a:r>
            <a:endParaRPr b="0" lang="en-US" sz="2800" spc="-1" strike="noStrike">
              <a:solidFill>
                <a:srgbClr val="2f1311"/>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problem does Dr. Jekyll fac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nswers to the previous questions</a:t>
            </a:r>
            <a:endParaRPr b="0" lang="en-US" sz="36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story begins on the street in London in the late 1800s.  The location of the action changes several times during the story.  </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main character is Dr. Jekyll, and he is a well-respected doctor.</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r. Hyde beats a child at the beginning of the story.</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r. Jekyll’s problem is that he must overcome his desire to be Mr. Hyd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efine Theme</a:t>
            </a: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me is an author’s important message about life.  This story is a mystery about someone who has more than one side, a doppelgange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nce the setting, characters, and plot are considered, those elements might relate to the story’s the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udent Objectives</a:t>
            </a: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ractice analyzing the setting, character, plot and them of a short story.</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e text marking to identify story elements.</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view the plot of “The Strange Case of Dr. Jekyll and Mr. Hyde” (a good man who tries to overcome his urge to be violent)</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scribe how Mr. Enfield feels about what he see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nswer to the Description</a:t>
            </a:r>
            <a:br>
              <a:rPr sz="3600"/>
            </a:br>
            <a:r>
              <a:rPr b="0" lang="en-US" sz="3600" spc="-1" strike="noStrike">
                <a:solidFill>
                  <a:srgbClr val="f7d47d"/>
                </a:solidFill>
                <a:latin typeface="Arial"/>
              </a:rPr>
              <a:t>&amp;Target Word</a:t>
            </a:r>
            <a:endParaRPr b="0" lang="en-US" sz="36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r. Enfield is shocked and horrified by the attack and the man who did it.</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r>
              <a:rPr b="0" lang="en-US" sz="2400" spc="-1" strike="noStrike">
                <a:solidFill>
                  <a:srgbClr val="2f1311"/>
                </a:solidFill>
                <a:latin typeface="Arial"/>
              </a:rPr>
              <a:t>Enfield couldn’t believe his eyes.”</a:t>
            </a:r>
            <a:endParaRPr b="0" lang="en-US" sz="2400" spc="-1" strike="noStrike">
              <a:solidFill>
                <a:srgbClr val="2f1311"/>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mbody</a:t>
            </a:r>
            <a:endParaRPr b="0" lang="en-US" sz="2400" spc="-1" strike="noStrike">
              <a:solidFill>
                <a:srgbClr val="2f1311"/>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m-bod-y (verb)</a:t>
            </a:r>
            <a:endParaRPr b="0" lang="en-US" sz="2400" spc="-1" strike="noStrike">
              <a:solidFill>
                <a:srgbClr val="2f1311"/>
              </a:solidFill>
              <a:latin typeface="Arial"/>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aning – to be a perfect example of a quality or idea.</a:t>
            </a:r>
            <a:endParaRPr b="0" lang="en-US" sz="2400" spc="-1" strike="noStrike">
              <a:solidFill>
                <a:srgbClr val="2f1311"/>
              </a:solidFill>
              <a:latin typeface="Arial"/>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xample – “He had no unusual features, yet somehow, that face embodied evil as its very purest.</a:t>
            </a:r>
            <a:endParaRPr b="0" lang="en-US" sz="2400" spc="-1" strike="noStrike">
              <a:solidFill>
                <a:srgbClr val="2f1311"/>
              </a:solidFill>
              <a:latin typeface="Arial"/>
            </a:endParaRPr>
          </a:p>
          <a:p>
            <a:pPr marL="339480" indent="-3394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ords to Know – perpetrator (n.) a person who does something wrong or illegal.</a:t>
            </a:r>
            <a:endParaRPr b="0" lang="en-US" sz="2400" spc="-1" strike="noStrike">
              <a:solidFill>
                <a:srgbClr val="2f1311"/>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Think-Pair-Share</a:t>
            </a:r>
            <a:br>
              <a:rPr sz="3600"/>
            </a:br>
            <a:r>
              <a:rPr b="0" lang="en-US" sz="3600" spc="-1" strike="noStrike">
                <a:solidFill>
                  <a:srgbClr val="f7d47d"/>
                </a:solidFill>
                <a:latin typeface="Arial"/>
              </a:rPr>
              <a:t>React and Discuss</a:t>
            </a:r>
            <a:endParaRPr b="0" lang="en-US" sz="3600" spc="-1" strike="noStrike">
              <a:solidFill>
                <a:srgbClr val="f7d47d"/>
              </a:solidFill>
              <a:latin typeface="Arial"/>
            </a:endParaRPr>
          </a:p>
        </p:txBody>
      </p:sp>
      <p:sp>
        <p:nvSpPr>
          <p:cNvPr id="22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girl’s parents (should/ should not) have accepted money from Mr. Hyde because ______________.</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o you think giving someone money is a good way to make up for bad behavior? Why or Why not?</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else could Mr. Hyde have done to avoid a scene and make up for his behavior?</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y Note</a:t>
            </a:r>
            <a:br>
              <a:rPr sz="3600"/>
            </a:br>
            <a:r>
              <a:rPr b="0" lang="en-US" sz="3600" spc="-1" strike="noStrike">
                <a:solidFill>
                  <a:srgbClr val="f7d47d"/>
                </a:solidFill>
                <a:latin typeface="Arial"/>
              </a:rPr>
              <a:t>Making Inferences</a:t>
            </a:r>
            <a:endParaRPr b="0" lang="en-US" sz="3600" spc="-1" strike="noStrike">
              <a:solidFill>
                <a:srgbClr val="f7d47d"/>
              </a:solidFill>
              <a:latin typeface="Arial"/>
            </a:endParaRPr>
          </a:p>
        </p:txBody>
      </p:sp>
      <p:sp>
        <p:nvSpPr>
          <p:cNvPr id="22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the story begins, Enfield is on a London street.  Then in paragraph 4, he is talking with Utterson at a later time, I can infer that the setting of the story has changed, perhaps to Utterson’s ho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y Note</a:t>
            </a:r>
            <a:br>
              <a:rPr sz="3600"/>
            </a:br>
            <a:r>
              <a:rPr b="0" lang="en-US" sz="3600" spc="-1" strike="noStrike">
                <a:solidFill>
                  <a:srgbClr val="f7d47d"/>
                </a:solidFill>
                <a:latin typeface="Arial"/>
              </a:rPr>
              <a:t>Visualize</a:t>
            </a:r>
            <a:endParaRPr b="0" lang="en-US" sz="3600" spc="-1" strike="noStrike">
              <a:solidFill>
                <a:srgbClr val="f7d47d"/>
              </a:solidFill>
              <a:latin typeface="Arial"/>
            </a:endParaRPr>
          </a:p>
        </p:txBody>
      </p:sp>
      <p:sp>
        <p:nvSpPr>
          <p:cNvPr id="22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paragraph 4, Enfield says Mr. Hyde’s face “embodied evil at its very purest.”  That description helps me better imagine the anger and cruelty that Enfield must have seen in Mr. Hyde’s expressio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ic Reading:</a:t>
            </a:r>
            <a:br>
              <a:rPr sz="3600"/>
            </a:br>
            <a:r>
              <a:rPr b="0" lang="en-US" sz="3600" spc="-1" strike="noStrike">
                <a:solidFill>
                  <a:srgbClr val="f7d47d"/>
                </a:solidFill>
                <a:latin typeface="Arial"/>
              </a:rPr>
              <a:t>Story Elements</a:t>
            </a:r>
            <a:br>
              <a:rPr sz="3600"/>
            </a:br>
            <a:r>
              <a:rPr b="0" lang="en-US" sz="3600" spc="-1" strike="noStrike">
                <a:solidFill>
                  <a:srgbClr val="f7d47d"/>
                </a:solidFill>
                <a:latin typeface="Arial"/>
              </a:rPr>
              <a:t>(Paired Worked)</a:t>
            </a:r>
            <a:endParaRPr b="0" lang="en-US" sz="3600" spc="-1" strike="noStrike">
              <a:solidFill>
                <a:srgbClr val="f7d47d"/>
              </a:solidFill>
              <a:latin typeface="Arial"/>
            </a:endParaRPr>
          </a:p>
        </p:txBody>
      </p:sp>
      <p:sp>
        <p:nvSpPr>
          <p:cNvPr id="22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tting – Where does the scene that Enfield watches take plac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aracter – What does Enfield say about the man’s appearance?  Give two details.</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lot – What events show a connection between Mr. Hyde and a well known doctor?</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me – The theme of this story is: “Everyone is capable of both good and bad,” Find a line of dialogue on page 61 that supports this them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swers</a:t>
            </a:r>
            <a:endParaRPr b="0" lang="en-US" sz="4000" spc="-1" strike="noStrike">
              <a:solidFill>
                <a:srgbClr val="f7d47d"/>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nfield sees Mr. Hyde attack the young girl on a quiet block in London.</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nfield said the man had no unusual features, and that his face was evil at its purest.  Even though his features seem normal, he somehow looks like a monster.</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r. Hyde wrote a check immediately, and it had Dr. Jekyll’s name on it.</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theme of this story is “Everyone is capable of both good and bad.” Utterson says, “There is goodness in even the worst of people” and the event that supports that opinion is that Hyde gives money to the parents of the girl he attacked.</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omprehension Focus</a:t>
            </a:r>
            <a:br>
              <a:rPr sz="3600"/>
            </a:br>
            <a:r>
              <a:rPr b="0" lang="en-US" sz="3600" spc="-1" strike="noStrike">
                <a:solidFill>
                  <a:srgbClr val="f7d47d"/>
                </a:solidFill>
                <a:latin typeface="Arial"/>
              </a:rPr>
              <a:t>Story Elements</a:t>
            </a:r>
            <a:endParaRPr b="0" lang="en-US" sz="3600" spc="-1" strike="noStrike">
              <a:solidFill>
                <a:srgbClr val="f7d47d"/>
              </a:solidFill>
              <a:latin typeface="Arial"/>
            </a:endParaRPr>
          </a:p>
        </p:txBody>
      </p:sp>
      <p:sp>
        <p:nvSpPr>
          <p:cNvPr id="1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 short story retelling, like “The Strange Case of Dr. Jekyll and Mr. Hyde,” in Read 180 is a brief piece of fiction based on a longer work, such as a novel.  To understand a short story, pay attention to the setting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7d47d"/>
                </a:solidFill>
                <a:latin typeface="Arial"/>
              </a:rPr>
              <a:t>Strategy Note</a:t>
            </a:r>
            <a:br>
              <a:rPr sz="3600"/>
            </a:br>
            <a:r>
              <a:rPr b="0" lang="en-US" sz="3600" spc="-1" strike="noStrike">
                <a:solidFill>
                  <a:srgbClr val="f7d47d"/>
                </a:solidFill>
                <a:latin typeface="Arial"/>
              </a:rPr>
              <a:t>Predict</a:t>
            </a:r>
            <a:endParaRPr b="0" lang="en-US" sz="3600" spc="-1" strike="noStrike">
              <a:solidFill>
                <a:srgbClr val="f7d47d"/>
              </a:solidFill>
              <a:latin typeface="Arial"/>
            </a:endParaRPr>
          </a:p>
        </p:txBody>
      </p:sp>
      <p:sp>
        <p:nvSpPr>
          <p:cNvPr id="2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Enfield says Hyde’s name, Utterson feels a chill spread through his body.  He also knows the doctor’s name that Hyde used on the check.  What do you think Utterson knows about the relationship between Mr. Hyde and the docto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0"/>
            <a:ext cx="74768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d47d"/>
                </a:solidFill>
                <a:latin typeface="Arial"/>
              </a:rPr>
              <a:t>Differentiated Support</a:t>
            </a:r>
            <a:br>
              <a:rPr sz="2000"/>
            </a:br>
            <a:r>
              <a:rPr b="0" lang="en-US" sz="2000" spc="-1" strike="noStrike">
                <a:solidFill>
                  <a:srgbClr val="f7d47d"/>
                </a:solidFill>
                <a:latin typeface="Arial"/>
              </a:rPr>
              <a:t>Past-tense Beginning readers with Lexiles scores under 400; student who struggle with fluency; ELLs who need help with irregular verbs</a:t>
            </a:r>
            <a:endParaRPr b="0" lang="en-US" sz="2000" spc="-1" strike="noStrike">
              <a:solidFill>
                <a:srgbClr val="f7d47d"/>
              </a:solidFill>
              <a:latin typeface="Arial"/>
            </a:endParaRPr>
          </a:p>
        </p:txBody>
      </p:sp>
      <p:sp>
        <p:nvSpPr>
          <p:cNvPr id="232" name="PlaceHolder 2"/>
          <p:cNvSpPr>
            <a:spLocks noGrp="1"/>
          </p:cNvSpPr>
          <p:nvPr>
            <p:ph/>
          </p:nvPr>
        </p:nvSpPr>
        <p:spPr>
          <a:xfrm>
            <a:off x="456840" y="2057400"/>
            <a:ext cx="6553080" cy="40384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elp with syllables that end in consonant –le, -al, or el</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eck fluency recordings that indicate struggling readers to read with natural, consistent pacing</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eck ELLs who need help with irregular past-tense verb</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e pages 85A – 85B for instructional options to meet student needs as Workshop 3 is read.</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ecoding/Syllabication:</a:t>
            </a:r>
            <a:endParaRPr b="0" lang="en-US" sz="4000" spc="-1" strike="noStrike">
              <a:solidFill>
                <a:srgbClr val="f7d47d"/>
              </a:solidFill>
              <a:latin typeface="Arial"/>
            </a:endParaRPr>
          </a:p>
        </p:txBody>
      </p:sp>
      <p:sp>
        <p:nvSpPr>
          <p:cNvPr id="23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le, -al, and –el all stand for the same sound of the word giggle.</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tter pairs –le, -al, or –el appear after a consonant at the end of a word, the consonant plus the letters can form the final syllable of the word. In giggle, the letters –le follow the consonant g.  The last syllable in giggle is –gle.  Say giggle, stressing each syllable (gig-gle).</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ay the following words: scandal; puddle; tunnel; mumble; signal; channel</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Decoding/Syllabication</a:t>
            </a:r>
            <a:br>
              <a:rPr sz="3600"/>
            </a:br>
            <a:r>
              <a:rPr b="0" lang="en-US" sz="3600" spc="-1" strike="noStrike">
                <a:solidFill>
                  <a:srgbClr val="f7d47d"/>
                </a:solidFill>
                <a:latin typeface="Arial"/>
              </a:rPr>
              <a:t>Consonant –le, -al, -el</a:t>
            </a:r>
            <a:endParaRPr b="0" lang="en-US" sz="3600" spc="-1" strike="noStrike">
              <a:solidFill>
                <a:srgbClr val="f7d47d"/>
              </a:solidFill>
              <a:latin typeface="Arial"/>
            </a:endParaRPr>
          </a:p>
        </p:txBody>
      </p:sp>
      <p:sp>
        <p:nvSpPr>
          <p:cNvPr id="2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 – I know that –al and the consonant that comes before it form the last syllable in scandal: -dal.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s leaves s-c-a-n, which is pronounced /scan/. When I put the two syllables together, I get scandal.</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peat the word </a:t>
            </a:r>
            <a:r>
              <a:rPr b="0" i="1" lang="en-US" sz="3200" spc="-1" strike="noStrike">
                <a:solidFill>
                  <a:srgbClr val="2f1311"/>
                </a:solidFill>
                <a:latin typeface="Arial"/>
              </a:rPr>
              <a:t>tunnel</a:t>
            </a:r>
            <a:r>
              <a:rPr b="0" lang="en-US" sz="3200" spc="-1" strike="noStrike">
                <a:solidFill>
                  <a:srgbClr val="2f1311"/>
                </a:solidFill>
                <a:latin typeface="Arial"/>
              </a:rPr>
              <a:t>, using syllabication strategies to read the wor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Decoding/Syllabication:</a:t>
            </a:r>
            <a:br>
              <a:rPr sz="3600"/>
            </a:br>
            <a:r>
              <a:rPr b="0" lang="en-US" sz="3600" spc="-1" strike="noStrike">
                <a:solidFill>
                  <a:srgbClr val="f7d47d"/>
                </a:solidFill>
                <a:latin typeface="Arial"/>
              </a:rPr>
              <a:t>Consonant –le, -al, -el </a:t>
            </a: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r>
              <a:rPr b="0" lang="en-US" sz="3600" spc="-1" strike="noStrike">
                <a:solidFill>
                  <a:srgbClr val="f7d47d"/>
                </a:solidFill>
                <a:latin typeface="Arial"/>
              </a:rPr>
              <a:t> </a:t>
            </a:r>
            <a:r>
              <a:rPr b="0" lang="en-US" sz="1800" spc="-1" strike="noStrike">
                <a:solidFill>
                  <a:srgbClr val="f7d47d"/>
                </a:solidFill>
                <a:latin typeface="Arial"/>
              </a:rPr>
              <a:t>Practice (Resource Link: 1RDIBook 1: Consonant le, al, el, p. 122</a:t>
            </a:r>
            <a:br>
              <a:rPr sz="1800"/>
            </a:br>
            <a:r>
              <a:rPr b="0" lang="en-US" sz="1800" spc="-1" strike="noStrike">
                <a:solidFill>
                  <a:srgbClr val="f7d47d"/>
                </a:solidFill>
                <a:latin typeface="Arial"/>
              </a:rPr>
              <a:t>Sam Keyword: Vowels With L</a:t>
            </a:r>
            <a:endParaRPr b="0" lang="en-US" sz="1800" spc="-1" strike="noStrike">
              <a:solidFill>
                <a:srgbClr val="f7d47d"/>
              </a:solidFill>
              <a:latin typeface="Arial"/>
            </a:endParaRPr>
          </a:p>
        </p:txBody>
      </p:sp>
      <p:graphicFrame>
        <p:nvGraphicFramePr>
          <p:cNvPr id="238" name=""/>
          <p:cNvGraphicFramePr/>
          <p:nvPr/>
        </p:nvGraphicFramePr>
        <p:xfrm>
          <a:off x="263520" y="1752480"/>
          <a:ext cx="7386480" cy="4800240"/>
        </p:xfrm>
        <a:graphic>
          <a:graphicData uri="http://schemas.openxmlformats.org/drawingml/2006/table">
            <a:tbl>
              <a:tblPr/>
              <a:tblGrid>
                <a:gridCol w="2462040"/>
                <a:gridCol w="2462400"/>
                <a:gridCol w="2462040"/>
              </a:tblGrid>
              <a:tr h="975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What Lies Beneath”</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The Strange Case of Dr. Jekyll and Mr. Hyde”</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Shadow Walker”</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824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56</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2: capab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3: terrib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0</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3: strugg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1</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5: novel</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3</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14: inevitab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8</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5: candle</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72</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Byline: Seibles</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Stanza 5: people</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4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ading at a natural, consistent speed helps readers understand what they read more easily.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atch punctuation cues, such as commas, periods, semicolons, and dashes where the reader should know when to pause or stop.</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urn to page 60, rBook Flex II, I’ll read these paragraphs aloud.  As I read, notice how I pause when I get to the commas, period, and semicolon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endParaRPr b="0" lang="en-US" sz="18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actice in Paired Reading</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 with a Natural, Consistent Pac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one student reads aloud, the partner should follow along in the text, listening for expression, prosody, and tone, in addition to a natural, consistent pace. </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partner should also make observations to share after reading.</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endParaRPr b="0" lang="en-US" sz="18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actice in Paired Reading</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 with a Natural, Consistent Pac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one student reads aloud, the partner should follow along in the text, listening for expression, prosody, and tone, in addition to a natural, consistent pace. </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partner should also make observations to share after reading.</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endParaRPr b="0" lang="en-US" sz="1800" spc="-1" strike="noStrike">
              <a:solidFill>
                <a:srgbClr val="f7d47d"/>
              </a:solidFill>
              <a:latin typeface="Arial"/>
            </a:endParaRPr>
          </a:p>
        </p:txBody>
      </p:sp>
      <p:sp>
        <p:nvSpPr>
          <p:cNvPr id="24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The Strange Case of Dr. Jekyll and Mr. Hyde”</a:t>
            </a:r>
            <a:endParaRPr b="0" lang="en-US" sz="3200" spc="-1" strike="noStrike">
              <a:solidFill>
                <a:srgbClr val="2f1311"/>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ge 62: paragraphs 1-3;</a:t>
            </a:r>
            <a:endParaRPr b="0" lang="en-US" sz="3200" spc="-1" strike="noStrike">
              <a:solidFill>
                <a:srgbClr val="2f1311"/>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page 65: paragraphs 12;</a:t>
            </a:r>
            <a:endParaRPr b="0" lang="en-US" sz="3200" spc="-1" strike="noStrike">
              <a:solidFill>
                <a:srgbClr val="2f1311"/>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page 68: paragraph 1-2;</a:t>
            </a:r>
            <a:endParaRPr b="0" lang="en-US" sz="3200" spc="-1" strike="noStrike">
              <a:solidFill>
                <a:srgbClr val="2f1311"/>
              </a:solidFill>
              <a:latin typeface="Arial"/>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page 70: paragraphs 1-2</a:t>
            </a:r>
            <a:endParaRPr b="0" lang="en-US" sz="3200" spc="-1" strike="noStrike">
              <a:solidFill>
                <a:srgbClr val="2f1311"/>
              </a:solidFill>
              <a:latin typeface="Arial"/>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Shadow Walker”, pages 72 – 73: stanzas 8 - 1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English-Language Development:</a:t>
            </a:r>
            <a:br>
              <a:rPr sz="3600"/>
            </a:br>
            <a:r>
              <a:rPr b="0" lang="en-US" sz="3600" spc="-1" strike="noStrike">
                <a:solidFill>
                  <a:srgbClr val="f7d47d"/>
                </a:solidFill>
                <a:latin typeface="Arial"/>
              </a:rPr>
              <a:t>Irregular Past-Tense Verbs</a:t>
            </a:r>
            <a:br>
              <a:rPr sz="3600"/>
            </a:br>
            <a:r>
              <a:rPr b="0" lang="en-US" sz="3600" spc="-1" strike="noStrike">
                <a:solidFill>
                  <a:srgbClr val="f7d47d"/>
                </a:solidFill>
                <a:latin typeface="Arial"/>
              </a:rPr>
              <a:t> </a:t>
            </a: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B</a:t>
            </a:r>
            <a:endParaRPr b="0" lang="en-US" sz="1800" spc="-1" strike="noStrike">
              <a:solidFill>
                <a:srgbClr val="f7d47d"/>
              </a:solidFill>
              <a:latin typeface="Arial"/>
            </a:endParaRPr>
          </a:p>
        </p:txBody>
      </p:sp>
      <p:sp>
        <p:nvSpPr>
          <p:cNvPr id="24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form the past tense of most verbs in English, we add the ending –ed. For example, Yesterday, Utterson confronted Dr. Jekyll.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wever, some verbs are irregular—they do not follow regular rules, it is important to remember how they are writte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etting</a:t>
            </a: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1.  Setting is where and when the story takes place.  “The Strange Case of Dr. Jekyll and Mr. Hyde” takes place over a span of several month in London, England, in the late 1800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rregular Verbs</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nfield </a:t>
            </a:r>
            <a:r>
              <a:rPr b="0" lang="en-US" sz="3200" spc="-1" strike="noStrike" u="sng">
                <a:solidFill>
                  <a:srgbClr val="2f1311"/>
                </a:solidFill>
                <a:uFillTx/>
                <a:latin typeface="Arial"/>
              </a:rPr>
              <a:t>was</a:t>
            </a:r>
            <a:r>
              <a:rPr b="0" lang="en-US" sz="3200" spc="-1" strike="noStrike">
                <a:solidFill>
                  <a:srgbClr val="2f1311"/>
                </a:solidFill>
                <a:latin typeface="Arial"/>
              </a:rPr>
              <a:t> on a street when he </a:t>
            </a:r>
            <a:r>
              <a:rPr b="0" lang="en-US" sz="3200" spc="-1" strike="noStrike" u="sng">
                <a:solidFill>
                  <a:srgbClr val="2f1311"/>
                </a:solidFill>
                <a:uFillTx/>
                <a:latin typeface="Arial"/>
              </a:rPr>
              <a:t>saw</a:t>
            </a:r>
            <a:r>
              <a:rPr b="0" lang="en-US" sz="3200" spc="-1" strike="noStrike">
                <a:solidFill>
                  <a:srgbClr val="2f1311"/>
                </a:solidFill>
                <a:latin typeface="Arial"/>
              </a:rPr>
              <a:t> a girl. (is; se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r. Poole </a:t>
            </a:r>
            <a:r>
              <a:rPr b="0" lang="en-US" sz="3200" spc="-1" strike="noStrike" u="sng">
                <a:solidFill>
                  <a:srgbClr val="2f1311"/>
                </a:solidFill>
                <a:uFillTx/>
                <a:latin typeface="Arial"/>
              </a:rPr>
              <a:t>spoke</a:t>
            </a:r>
            <a:r>
              <a:rPr b="0" lang="en-US" sz="3200" spc="-1" strike="noStrike">
                <a:solidFill>
                  <a:srgbClr val="2f1311"/>
                </a:solidFill>
                <a:latin typeface="Arial"/>
              </a:rPr>
              <a:t> loudly through the door. (speak)</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r. Jekyll </a:t>
            </a:r>
            <a:r>
              <a:rPr b="0" lang="en-US" sz="3200" spc="-1" strike="noStrike" u="sng">
                <a:solidFill>
                  <a:srgbClr val="2f1311"/>
                </a:solidFill>
                <a:uFillTx/>
                <a:latin typeface="Arial"/>
              </a:rPr>
              <a:t>left</a:t>
            </a:r>
            <a:r>
              <a:rPr b="0" lang="en-US" sz="3200" spc="-1" strike="noStrike">
                <a:solidFill>
                  <a:srgbClr val="2f1311"/>
                </a:solidFill>
                <a:latin typeface="Arial"/>
              </a:rPr>
              <a:t> a letter to explain how he </a:t>
            </a:r>
            <a:r>
              <a:rPr b="0" lang="en-US" sz="3200" spc="-1" strike="noStrike" u="sng">
                <a:solidFill>
                  <a:srgbClr val="2f1311"/>
                </a:solidFill>
                <a:uFillTx/>
                <a:latin typeface="Arial"/>
              </a:rPr>
              <a:t>became</a:t>
            </a:r>
            <a:r>
              <a:rPr b="0" lang="en-US" sz="3200" spc="-1" strike="noStrike">
                <a:solidFill>
                  <a:srgbClr val="2f1311"/>
                </a:solidFill>
                <a:latin typeface="Arial"/>
              </a:rPr>
              <a:t> Mr. Hyde. (Ieave; beco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Practice</a:t>
            </a:r>
            <a:br>
              <a:rPr sz="3600"/>
            </a:br>
            <a:r>
              <a:rPr b="0" lang="en-US" sz="3600" spc="-1" strike="noStrike">
                <a:solidFill>
                  <a:srgbClr val="f7d47d"/>
                </a:solidFill>
                <a:latin typeface="Arial"/>
              </a:rPr>
              <a:t>Irregular Verbs, </a:t>
            </a:r>
            <a:r>
              <a:rPr b="0" lang="en-US" sz="2000" spc="-1" strike="noStrike">
                <a:solidFill>
                  <a:srgbClr val="f7d47d"/>
                </a:solidFill>
                <a:latin typeface="Arial"/>
              </a:rPr>
              <a:t>rBook Flex II, p. 85</a:t>
            </a:r>
            <a:r>
              <a:rPr b="0" lang="en-US" sz="3600" spc="-1" strike="noStrike">
                <a:solidFill>
                  <a:srgbClr val="f7d47d"/>
                </a:solidFill>
                <a:latin typeface="Arial"/>
              </a:rPr>
              <a:t> </a:t>
            </a:r>
            <a:r>
              <a:rPr b="0" lang="en-US" sz="2000" spc="-1" strike="noStrike">
                <a:solidFill>
                  <a:srgbClr val="f7d47d"/>
                </a:solidFill>
                <a:latin typeface="Arial"/>
              </a:rPr>
              <a:t>B</a:t>
            </a:r>
            <a:r>
              <a:rPr b="0" lang="en-US" sz="3600" spc="-1" strike="noStrike">
                <a:solidFill>
                  <a:srgbClr val="f7d47d"/>
                </a:solidFill>
                <a:latin typeface="Arial"/>
              </a:rPr>
              <a:t> </a:t>
            </a:r>
            <a:br>
              <a:rPr sz="3600"/>
            </a:br>
            <a:r>
              <a:rPr b="0" lang="en-US" sz="1800" spc="-1" strike="noStrike">
                <a:solidFill>
                  <a:srgbClr val="f7d47d"/>
                </a:solidFill>
                <a:latin typeface="Arial"/>
              </a:rPr>
              <a:t>Resource Links -</a:t>
            </a:r>
            <a:r>
              <a:rPr b="0" lang="en-US" sz="1000" spc="-1" strike="noStrike">
                <a:solidFill>
                  <a:srgbClr val="f7d47d"/>
                </a:solidFill>
                <a:latin typeface="Arial"/>
              </a:rPr>
              <a:t>Green RDI Book 2: Irregular Verbs, page 208 &amp; Blue RDI Book 3: On Vacation (Verb Tenses), p. 51 ; </a:t>
            </a:r>
            <a:endParaRPr b="0" lang="en-US" sz="1000" spc="-1" strike="noStrike">
              <a:solidFill>
                <a:srgbClr val="f7d47d"/>
              </a:solidFill>
              <a:latin typeface="Arial"/>
            </a:endParaRPr>
          </a:p>
        </p:txBody>
      </p:sp>
      <p:graphicFrame>
        <p:nvGraphicFramePr>
          <p:cNvPr id="252" name=""/>
          <p:cNvGraphicFramePr/>
          <p:nvPr/>
        </p:nvGraphicFramePr>
        <p:xfrm>
          <a:off x="228600" y="1447920"/>
          <a:ext cx="7386480" cy="4097160"/>
        </p:xfrm>
        <a:graphic>
          <a:graphicData uri="http://schemas.openxmlformats.org/drawingml/2006/table">
            <a:tbl>
              <a:tblPr/>
              <a:tblGrid>
                <a:gridCol w="3693960"/>
                <a:gridCol w="3692520"/>
              </a:tblGrid>
              <a:tr h="1047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What Lies Beneath</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The Strange Case of Dr. Jekyll and Mr. Hyde” short story selection</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049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56</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3: wrote (write); </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was (is)</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0</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2; lay (li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2</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6: found (find); became (become); knew (know); stood (stand); got (get)</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5</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10; did (does); slept (sleep)</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6</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1: heard (hear); met (meet)</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Sam Keyword: Irregular</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aracters</a:t>
            </a: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aracters are the people in the story.  The main character are the most important characters.  Here are the main characters in the story.</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r. Henry Jekyll – a respected doctor and scientist.</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r. Utterson - a lawyer and friend of Dr. Jekyll.</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r. Edward Hyde – a mysterious, rough acting figure seen on the streets of London.</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lot</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lot is the series of events in a story.  The plot contains a problem that the main character tries to solve.  In “The Strange Case of Dr. Jekyll and Mr. Hyde,” the main character is the respectable Dr. Jekyll.  His problem is clear: his life is being destroyed by the mysterious Mr. Hyd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me</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me is the important message about life that a writer shares with readers through a story or poem.  A story can have more than one the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y Note</a:t>
            </a:r>
            <a:br>
              <a:rPr sz="3600"/>
            </a:br>
            <a:r>
              <a:rPr b="0" lang="en-US" sz="3600" spc="-1" strike="noStrike">
                <a:solidFill>
                  <a:srgbClr val="f7d47d"/>
                </a:solidFill>
                <a:latin typeface="Arial"/>
              </a:rPr>
              <a:t>Social Studies Connection</a:t>
            </a:r>
            <a:endParaRPr b="0" lang="en-US" sz="36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1800s were a time of growth for London, England.  Its population grew from about one million to seven million, making it the world’s largest city.  Many buildings and railroads were built.  This rapid growth caused some problems as London became overcrowded and dirty.</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t>
            </a:r>
            <a:r>
              <a:rPr b="0" lang="en-US" sz="2400" spc="-1" strike="noStrike">
                <a:solidFill>
                  <a:srgbClr val="f7d47d"/>
                </a:solidFill>
                <a:latin typeface="Arial"/>
              </a:rPr>
              <a:t>The Strange Case of Dr. Jekyll and Mr. Hyde”</a:t>
            </a:r>
            <a:br>
              <a:rPr sz="2400"/>
            </a:br>
            <a:r>
              <a:rPr b="0" lang="en-US" sz="2400" spc="-1" strike="noStrike">
                <a:solidFill>
                  <a:srgbClr val="f7d47d"/>
                </a:solidFill>
                <a:latin typeface="Arial"/>
              </a:rPr>
              <a:t>Fill in this chart as you reread the story.</a:t>
            </a:r>
            <a:endParaRPr b="0" lang="en-US" sz="2400" spc="-1" strike="noStrike">
              <a:solidFill>
                <a:srgbClr val="f7d47d"/>
              </a:solidFill>
              <a:latin typeface="Arial"/>
            </a:endParaRPr>
          </a:p>
        </p:txBody>
      </p:sp>
      <p:graphicFrame>
        <p:nvGraphicFramePr>
          <p:cNvPr id="206" name=""/>
          <p:cNvGraphicFramePr/>
          <p:nvPr/>
        </p:nvGraphicFramePr>
        <p:xfrm>
          <a:off x="219240" y="1447920"/>
          <a:ext cx="7476840" cy="4743360"/>
        </p:xfrm>
        <a:graphic>
          <a:graphicData uri="http://schemas.openxmlformats.org/drawingml/2006/table">
            <a:tbl>
              <a:tblPr/>
              <a:tblGrid>
                <a:gridCol w="1869840"/>
                <a:gridCol w="1868400"/>
                <a:gridCol w="1870200"/>
                <a:gridCol w="1868400"/>
              </a:tblGrid>
              <a:tr h="927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rt 1</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p. 60 -63)</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rt 2</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p.64 – 67)</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rt 3</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68 – 71)</a:t>
                      </a: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TTING</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IME:</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ACE:</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IME:</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ACE:</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IME:</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ACE:</a:t>
                      </a: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2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ARACTER</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O IS THE MAIN CHARACTER?</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W DOES THE MAIN CHARACTER CHANGE?</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IS THE CHARACTER LIKE NOW?</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2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OT</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HAPPENS AT THE BEGINNING OF THE STORY?</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HAPPENS IN THE MIDDLE OF THE STORY?</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W DOES THE STORY END?</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2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ME</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UTHOR’S MESSAGE:</a:t>
                      </a: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t>
            </a:r>
            <a:r>
              <a:rPr b="0" lang="en-US" sz="2400" spc="-1" strike="noStrike">
                <a:solidFill>
                  <a:srgbClr val="f7d47d"/>
                </a:solidFill>
                <a:latin typeface="Arial"/>
              </a:rPr>
              <a:t>The Strange Case of Dr. Jekyll and Mr. Hyde”</a:t>
            </a:r>
            <a:br>
              <a:rPr sz="2400"/>
            </a:br>
            <a:r>
              <a:rPr b="0" lang="en-US" sz="2400" spc="-1" strike="noStrike">
                <a:solidFill>
                  <a:srgbClr val="f7d47d"/>
                </a:solidFill>
                <a:latin typeface="Arial"/>
              </a:rPr>
              <a:t>Fill in this chart as you reread the story.</a:t>
            </a:r>
            <a:endParaRPr b="0" lang="en-US" sz="2400" spc="-1" strike="noStrike">
              <a:solidFill>
                <a:srgbClr val="f7d47d"/>
              </a:solidFill>
              <a:latin typeface="Arial"/>
            </a:endParaRPr>
          </a:p>
        </p:txBody>
      </p:sp>
      <p:graphicFrame>
        <p:nvGraphicFramePr>
          <p:cNvPr id="208" name=""/>
          <p:cNvGraphicFramePr/>
          <p:nvPr/>
        </p:nvGraphicFramePr>
        <p:xfrm>
          <a:off x="219240" y="1447920"/>
          <a:ext cx="7476840" cy="5157720"/>
        </p:xfrm>
        <a:graphic>
          <a:graphicData uri="http://schemas.openxmlformats.org/drawingml/2006/table">
            <a:tbl>
              <a:tblPr/>
              <a:tblGrid>
                <a:gridCol w="1869840"/>
                <a:gridCol w="1868400"/>
                <a:gridCol w="1870200"/>
                <a:gridCol w="1868400"/>
              </a:tblGrid>
              <a:tr h="717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Part 1</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p. 60 -63)</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Part 2</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p.64 – 67)</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Part 3</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68 – 71)</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13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TTING</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TIME</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DAYTIME, LAT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PLACES:</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STREETS OF LONDON;</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MR. UTTERSON’S OFFICE</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TIME</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TWO WEEKS LATER; SEVERAL MONThS ON AN OCTOBER EVENING</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PLACES</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LONDON; A DINNER PARTY; JEKYLL’S HOUSE</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TIM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JANUARY, SEVERAL WEEKS LATER</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PLAC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UTTERSON’S HOME; JEKYLL’S HOUSE AND LABORATORY</a:t>
                      </a:r>
                      <a:endParaRPr b="0" lang="en-US" sz="9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002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ARACTER</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O IS THE MAIN CHARACTER?</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DR. JEKYLL</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DESCRIBE HIM/HER</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HE IS A WELL-RESPECTED DOCTOR IN LONDON.</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HOW DOES THE MAIN CHARACTER CHANG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HE GROWS MORE AND MORE TROUBLED AS THE STORY CONTINUES</a:t>
                      </a:r>
                      <a:r>
                        <a:rPr b="1" lang="en-US" sz="900" spc="-1" strike="noStrike">
                          <a:solidFill>
                            <a:srgbClr val="2f1311"/>
                          </a:solidFill>
                          <a:latin typeface="Arial"/>
                        </a:rPr>
                        <a:t>.</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AT IS THE CHARACTER LIKE NOW</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JEKYLL HAS REACHED A CRISIS POINT.  HE CAN NO LONGER CONTROL HYDE.</a:t>
                      </a:r>
                      <a:endParaRPr b="0" lang="en-US" sz="9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24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OT</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AT HAPPENS AT THE BEGINNING OF THE STORY?</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A MAN </a:t>
                      </a:r>
                      <a:r>
                        <a:rPr b="1" lang="en-US" sz="900" spc="-1" strike="noStrike">
                          <a:solidFill>
                            <a:srgbClr val="2f1311"/>
                          </a:solidFill>
                          <a:latin typeface="Arial"/>
                        </a:rPr>
                        <a:t>MURDERS CAREW, A WELL KNOW POLITICIAN.</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TRAMPLES A YOUNG GIRL AND THEN PAYS OFF HER PARENTS WITH A CHECK FROM DR. JEKYLL</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AT HAPPENS IN THE MIDDLE OF THE STORY?</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JEKYLL’S FRIEND, MR. UTTERSON, CONGRONTS JEKYLL ABOUT HIS CONNECTION TO MR. HYDE.  </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HOW DOES THE STORY END?</a:t>
                      </a:r>
                      <a:endParaRPr b="0" lang="en-US" sz="9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884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ME</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UTHOR’S MESSAGE:</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RYON IS CAPABLE OF BOTH GOOD AND BAD.</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5:44:43Z</dcterms:created>
  <dc:creator>Barbara Vogt</dc:creator>
  <dc:description/>
  <dc:language>en-US</dc:language>
  <cp:lastModifiedBy>Barbara Vogt</cp:lastModifiedBy>
  <dcterms:modified xsi:type="dcterms:W3CDTF">2012-02-04T19:34:43Z</dcterms:modified>
  <cp:revision>4</cp:revision>
  <dc:subject/>
  <dc:title>Story Element Can Do *Identify the element of a short story including setting, character, plot, and theme. *Practice sorting story elements into a graphic organizer. </dc:title>
</cp:coreProperties>
</file>